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C684-FD42-4452-9541-CCF2132BC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791D7-6863-4C9B-BA75-152DADB710D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E1C4-BF01-4DD2-B1B5-0577D88602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3619-6864-4690-B31C-DB2C97BE19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E8545-7347-4E8B-B26B-14A4BA6A99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E546-4452-49E4-AF1E-92A8951EAB1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B1BE-1B9C-4775-B056-EF3E504FF2C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1695-A501-40BA-9ADF-FB69A80330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CFC5-4017-4885-9474-36174709E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4CF4-B3CB-49E2-88AA-004505DB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C8D9-FBC7-47FC-8690-1BBDF7302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2E9-4418-4063-883C-6D0516BD5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B51F-F244-4B70-A51E-83A6702C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07E43F-CDF7-4CC0-A6AE-208A56FC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38292-BE8F-4059-B1F3-7E7C8813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ADEDB-DF78-45A1-8ED1-2D42D93A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A9E49-2FED-463F-8823-82F8A6EE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2ADF39-DF00-451A-8DCA-5CE85636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98A6A9-70CB-4A35-90A3-68E9B613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5B52-C3C5-4A41-9C72-1D9A7FFA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7C7378-DE69-46AE-9BBA-A86AF4B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7F2083-B379-45AD-93D2-6D82B682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44B035-58C6-47BA-8E7D-2840F585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6A610-EAB9-4715-9D12-18FBF6953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F1EF0-A91F-49BC-9453-F55253401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92613-DB03-4EBF-811D-31CE558BA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13145-53DA-4206-8334-E6468F2B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408D69-1DD1-43A0-8740-B17B770C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08CAC7-3464-46F7-87F4-13CE2AF91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01069E-CA67-4446-80BC-F17E5126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67F0-DA80-4521-AE38-A21E03EC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A4D7B1-52B9-4848-B515-2E582BF45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72F58A-F60C-4579-B9D8-1F980393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A30D9-C01D-4F4D-AFC8-0BD0E855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43146-1159-4485-98B8-AB48A89F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E2621-415D-4A8C-A59C-2A154BC9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3EF404-04FC-431F-A22B-CEA8E1C7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4CF199-2DD4-446B-84F1-E98B17ACC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7A6D75-A0CF-4EA9-87DD-7F7AD295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5C2690-70A9-4BF6-935C-9C196D3B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7DA41A-B11B-4ED0-AC06-4E9FA191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97ED-CE4C-48F4-AD0F-8104C1817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597BB1-2C64-48AC-9374-0A1FADA58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7A62FB-AF25-42D4-A92C-614D9938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AE19CE-FA5B-41D0-9607-03CCD07E9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F12BB6-713F-4EB0-9A91-F93CC1DB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8F9793F-B619-4A34-9AAC-2AEA52A3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8FA420-2F08-4F17-9785-FA012A02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902E7E-965B-4140-BCA9-C4AAD5D0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028608-FA54-4DE4-96ED-97153BBE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F66F8E-7A8A-4CE0-8E55-451CBB03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662838-4317-42D9-86E1-B25DBBF0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CE70-EA95-481D-95E9-21BC83F4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2FF740-E53D-4FDA-AC5E-3E1B6A42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507C72-F16D-4D55-959D-6E4403939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6130D8-DC6F-43B7-9A13-34AA0911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C8DE1-EF22-4AAB-95D3-784491D14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0D36C-DD09-45AD-A42E-D0C48828E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DFD49-2315-498A-9124-1F026646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BD1C1-E50F-4802-978D-58717FE2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03592-AEDD-45FC-AE39-0DE09FC2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3337A3-288D-49EE-93CF-0F4D831EA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27DFA1-DF2D-4E8E-BF38-2666A5EEB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2B9-8A74-43DB-AFBC-576E58EA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73DC9A-1361-49FB-A276-446CA6AE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46CE80-CC6F-4514-89C3-3C82A5998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84B70D-8291-4AD0-AF60-1AD6DA62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425B0-E7BA-4700-A1F9-4B762E1E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8EE6ED-CE54-43F9-B61A-B17E4A113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9B461A-D725-4657-8573-6ABA8F37E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06DFC6-4165-47CA-A023-E37E1FB49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054EDA3-B7AB-4978-BBF4-BACBD1DB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3ABF0C-690F-41D5-8E2D-860AD036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96FBF3-F436-4525-90EF-06B63FAE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4994-0107-4D2F-A4A1-E590BFE5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5D1139-0622-4BDD-8EA9-5E8F0E7F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66A08-2203-42F9-9195-56A07AA18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6D42D-FE80-4A6A-B13C-769BCEF6D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44BC-AAFD-43BB-932F-69E9E8A0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1F55-F355-472A-840A-5008E78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E9F7-DF21-4CAF-87A9-E0234B731EB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47EBB-E6A2-44D7-B47E-64712AD6A2B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6150F-5882-4003-8958-FB61E7BA0ED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BAD8F-6B54-438B-AEDE-3B289C50A3C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4A45-680F-41E6-9352-8E7C21EEE14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A63D0-53A5-4A0A-950F-07F43821659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0240" y="230040"/>
            <a:ext cx="7315200" cy="259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Energy Bar Chart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2122560" y="3219120"/>
            <a:ext cx="73152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How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to quantify and represent energy storage and transfer.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681120" y="603720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41360" y="220320"/>
            <a:ext cx="8236080" cy="15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And that’s it are you </a:t>
            </a:r>
            <a:br>
              <a:rPr sz="4900"/>
            </a:b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ready to try it?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695160" y="632628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4720" y="685800"/>
            <a:ext cx="7184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00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58480" y="1494000"/>
            <a:ext cx="88851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Consider this example: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b666"/>
                </a:solidFill>
                <a:latin typeface="Century Schoolbook"/>
              </a:rPr>
              <a:t>A hot cup of hot chocolate is left on a    countertop for an hour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b6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You’re going to depict energy before it placed on the counter and again after an hour using a bar graph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17680" y="403200"/>
            <a:ext cx="81835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structing an Energy Bar Chart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4" name="Picture 2" descr="Screen Clipping"/>
          <p:cNvPicPr/>
          <p:nvPr/>
        </p:nvPicPr>
        <p:blipFill>
          <a:blip r:embed="rId1"/>
          <a:stretch/>
        </p:blipFill>
        <p:spPr>
          <a:xfrm>
            <a:off x="2232000" y="4903920"/>
            <a:ext cx="5091120" cy="1608120"/>
          </a:xfrm>
          <a:prstGeom prst="rect">
            <a:avLst/>
          </a:prstGeom>
          <a:ln w="0">
            <a:noFill/>
          </a:ln>
        </p:spPr>
      </p:pic>
      <p:sp>
        <p:nvSpPr>
          <p:cNvPr id="325" name="TextBox 7"/>
          <p:cNvSpPr/>
          <p:nvPr/>
        </p:nvSpPr>
        <p:spPr>
          <a:xfrm>
            <a:off x="2324160" y="444168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681120" y="651204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7" name="Picture 1" descr=""/>
          <p:cNvPicPr/>
          <p:nvPr/>
        </p:nvPicPr>
        <p:blipFill>
          <a:blip r:embed="rId2"/>
          <a:stretch/>
        </p:blipFill>
        <p:spPr>
          <a:xfrm>
            <a:off x="841320" y="1871640"/>
            <a:ext cx="914400" cy="129528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2"/>
          <p:cNvCxnSpPr/>
          <p:nvPr/>
        </p:nvCxnSpPr>
        <p:spPr>
          <a:xfrm flipH="1">
            <a:off x="3644640" y="4362480"/>
            <a:ext cx="645120" cy="73584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  <p:cxnSp>
        <p:nvCxnSpPr>
          <p:cNvPr id="329" name="Straight Arrow Connector 4"/>
          <p:cNvCxnSpPr/>
          <p:nvPr/>
        </p:nvCxnSpPr>
        <p:spPr>
          <a:xfrm>
            <a:off x="5263920" y="4287960"/>
            <a:ext cx="664200" cy="700200"/>
          </a:xfrm>
          <a:prstGeom prst="straightConnector1">
            <a:avLst/>
          </a:prstGeom>
          <a:ln w="38160">
            <a:solidFill>
              <a:srgbClr val="ffff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33240" y="652320"/>
            <a:ext cx="7315200" cy="353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lvl="1"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First determine what is in the system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(what specifically are we considering)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verything else makes up the surroundings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601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o keep it simple and clear 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  <a:p>
            <a:pPr lvl="1" marL="272880" indent="-25524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6600"/>
                </a:solidFill>
                <a:latin typeface="Arial"/>
              </a:rPr>
              <a:t>define your system as just the cup of hot cocoa. </a:t>
            </a:r>
            <a:endParaRPr b="0" lang="en-US" sz="22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55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65040" y="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Define the system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2" name="Picture 2" descr="Screen Clipping"/>
          <p:cNvPicPr/>
          <p:nvPr/>
        </p:nvPicPr>
        <p:blipFill>
          <a:blip r:embed="rId1"/>
          <a:stretch/>
        </p:blipFill>
        <p:spPr>
          <a:xfrm>
            <a:off x="1943280" y="4097160"/>
            <a:ext cx="5090760" cy="1608480"/>
          </a:xfrm>
          <a:prstGeom prst="rect">
            <a:avLst/>
          </a:prstGeom>
          <a:ln w="0">
            <a:noFill/>
          </a:ln>
        </p:spPr>
      </p:pic>
      <p:sp>
        <p:nvSpPr>
          <p:cNvPr id="333" name="TextBox 4"/>
          <p:cNvSpPr/>
          <p:nvPr/>
        </p:nvSpPr>
        <p:spPr>
          <a:xfrm>
            <a:off x="2247840" y="372744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3776760" y="4503600"/>
            <a:ext cx="14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t coco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681120" y="634536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36" name="Straight Arrow Connector 2"/>
          <p:cNvCxnSpPr/>
          <p:nvPr/>
        </p:nvCxnSpPr>
        <p:spPr>
          <a:xfrm flipH="1">
            <a:off x="4527000" y="3460680"/>
            <a:ext cx="130680" cy="97560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64840" y="1425600"/>
            <a:ext cx="8015400" cy="28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In this case, we know the hot cocoa is initially a pretty hot liquid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nd we know that if it is a liquid that means it has more energy than solid, but less energy than a gas.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4600" y="293760"/>
            <a:ext cx="792468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cide how ENERGY is involved initially 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36680" y="644832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2394000" y="4010040"/>
            <a:ext cx="462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id            Liquid            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Straight Connector 8"/>
          <p:cNvSpPr/>
          <p:nvPr/>
        </p:nvSpPr>
        <p:spPr>
          <a:xfrm flipV="1">
            <a:off x="2287440" y="4427280"/>
            <a:ext cx="4629240" cy="27000"/>
          </a:xfrm>
          <a:prstGeom prst="line">
            <a:avLst/>
          </a:prstGeom>
          <a:ln w="19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2" descr=""/>
          <p:cNvPicPr/>
          <p:nvPr/>
        </p:nvPicPr>
        <p:blipFill>
          <a:blip r:embed="rId1"/>
          <a:stretch/>
        </p:blipFill>
        <p:spPr>
          <a:xfrm>
            <a:off x="2187720" y="4522680"/>
            <a:ext cx="534672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3" descr=""/>
          <p:cNvPicPr/>
          <p:nvPr/>
        </p:nvPicPr>
        <p:blipFill>
          <a:blip r:embed="rId1"/>
          <a:stretch/>
        </p:blipFill>
        <p:spPr>
          <a:xfrm>
            <a:off x="3267000" y="3819600"/>
            <a:ext cx="3354480" cy="28573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 txBox="1"/>
          <p:nvPr/>
        </p:nvSpPr>
        <p:spPr>
          <a:xfrm>
            <a:off x="275760" y="849240"/>
            <a:ext cx="8596440" cy="352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is energy we are talking about is called Thermal Energy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rmal Energy can be thought of as the sum of all the particles energy.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he  more the particles move -&gt; the greater the temperature -&gt; the greater thermal energy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534600" cy="87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Determine Initial Thermal Energy (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Palatino Linotype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Palatino Linotype"/>
              </a:rPr>
              <a:t>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407520" y="901440"/>
            <a:ext cx="8015400" cy="221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 let’s quantify the thermal energy.  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100000"/>
              </a:lnSpc>
              <a:spcBef>
                <a:spcPts val="700"/>
              </a:spcBef>
              <a:buClr>
                <a:srgbClr val="ff6600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To quantify this internal particle energy (E</a:t>
            </a:r>
            <a:r>
              <a:rPr b="0" lang="en-US" sz="2800" spc="-1" strike="noStrike" baseline="-25000">
                <a:solidFill>
                  <a:srgbClr val="ff66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) we’ll use different sized bars to go with each phase.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15520" y="0"/>
            <a:ext cx="792468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Quantify Thermal Energy 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436680" y="644832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5"/>
          <p:cNvSpPr/>
          <p:nvPr/>
        </p:nvSpPr>
        <p:spPr>
          <a:xfrm>
            <a:off x="676440" y="2430360"/>
            <a:ext cx="825804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1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38120" y="-360"/>
            <a:ext cx="8453520" cy="18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t’s come back to our bar chart and Determine the Initial E</a:t>
            </a:r>
            <a:r>
              <a:rPr b="0" lang="en-US" sz="4000" spc="-1" strike="noStrike" baseline="-25000">
                <a:solidFill>
                  <a:srgbClr val="ffffff"/>
                </a:solidFill>
                <a:latin typeface="Arial"/>
              </a:rPr>
              <a:t>th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2" descr="Screen Clipping"/>
          <p:cNvPicPr/>
          <p:nvPr/>
        </p:nvPicPr>
        <p:blipFill>
          <a:blip r:embed="rId1"/>
          <a:stretch/>
        </p:blipFill>
        <p:spPr>
          <a:xfrm>
            <a:off x="1943280" y="4097160"/>
            <a:ext cx="5090760" cy="1608480"/>
          </a:xfrm>
          <a:prstGeom prst="rect">
            <a:avLst/>
          </a:prstGeom>
          <a:ln w="0">
            <a:noFill/>
          </a:ln>
        </p:spPr>
      </p:pic>
      <p:sp>
        <p:nvSpPr>
          <p:cNvPr id="352" name="TextBox 4"/>
          <p:cNvSpPr/>
          <p:nvPr/>
        </p:nvSpPr>
        <p:spPr>
          <a:xfrm>
            <a:off x="2247840" y="360360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Text Box 5"/>
          <p:cNvSpPr/>
          <p:nvPr/>
        </p:nvSpPr>
        <p:spPr>
          <a:xfrm>
            <a:off x="3776760" y="4503600"/>
            <a:ext cx="142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t coco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81120" y="634536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5" name="Rectangle 1"/>
          <p:cNvGrpSpPr/>
          <p:nvPr/>
        </p:nvGrpSpPr>
        <p:grpSpPr>
          <a:xfrm>
            <a:off x="2163600" y="4816440"/>
            <a:ext cx="476280" cy="907920"/>
            <a:chOff x="2163600" y="4816440"/>
            <a:chExt cx="476280" cy="907920"/>
          </a:xfrm>
        </p:grpSpPr>
        <p:pic>
          <p:nvPicPr>
            <p:cNvPr id="356" name="Rectangle 1" descr=""/>
            <p:cNvPicPr/>
            <p:nvPr/>
          </p:nvPicPr>
          <p:blipFill>
            <a:blip r:embed="rId2"/>
            <a:stretch/>
          </p:blipFill>
          <p:spPr>
            <a:xfrm>
              <a:off x="2163600" y="4816440"/>
              <a:ext cx="47628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2260440" y="4879800"/>
              <a:ext cx="279720" cy="7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TextBox 2"/>
          <p:cNvSpPr/>
          <p:nvPr/>
        </p:nvSpPr>
        <p:spPr>
          <a:xfrm>
            <a:off x="2075040" y="5607000"/>
            <a:ext cx="744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59" name="Straight Arrow Connector 4"/>
          <p:cNvCxnSpPr/>
          <p:nvPr/>
        </p:nvCxnSpPr>
        <p:spPr>
          <a:xfrm>
            <a:off x="1068120" y="2724120"/>
            <a:ext cx="1067400" cy="206136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60" name=""/>
          <p:cNvSpPr txBox="1"/>
          <p:nvPr/>
        </p:nvSpPr>
        <p:spPr>
          <a:xfrm>
            <a:off x="635040" y="1384200"/>
            <a:ext cx="7959600" cy="207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7960" y="233280"/>
            <a:ext cx="7315200" cy="115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ink about what’s happening to the cocoa as it sits there</a:t>
            </a:r>
            <a:endParaRPr b="0" lang="en-US" sz="3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62" name="Picture 8" descr="Screen Clipping"/>
          <p:cNvPicPr/>
          <p:nvPr/>
        </p:nvPicPr>
        <p:blipFill>
          <a:blip r:embed="rId1"/>
          <a:stretch/>
        </p:blipFill>
        <p:spPr>
          <a:xfrm>
            <a:off x="2247840" y="4019400"/>
            <a:ext cx="4998960" cy="1501920"/>
          </a:xfrm>
          <a:prstGeom prst="rect">
            <a:avLst/>
          </a:prstGeom>
          <a:ln w="0">
            <a:noFill/>
          </a:ln>
        </p:spPr>
      </p:pic>
      <p:sp>
        <p:nvSpPr>
          <p:cNvPr id="363" name="Text Box 5"/>
          <p:cNvSpPr/>
          <p:nvPr/>
        </p:nvSpPr>
        <p:spPr>
          <a:xfrm>
            <a:off x="4111560" y="4581360"/>
            <a:ext cx="127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Hot Coco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"/>
          <p:cNvSpPr/>
          <p:nvPr/>
        </p:nvSpPr>
        <p:spPr>
          <a:xfrm>
            <a:off x="2416320" y="4737240"/>
            <a:ext cx="347400" cy="677880"/>
          </a:xfrm>
          <a:prstGeom prst="rect">
            <a:avLst/>
          </a:prstGeom>
          <a:solidFill>
            <a:srgbClr val="4a8ef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Box 13"/>
          <p:cNvSpPr/>
          <p:nvPr/>
        </p:nvSpPr>
        <p:spPr>
          <a:xfrm>
            <a:off x="2247840" y="3603600"/>
            <a:ext cx="49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it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Rectangle 10"/>
          <p:cNvSpPr/>
          <p:nvPr/>
        </p:nvSpPr>
        <p:spPr>
          <a:xfrm rot="12635400">
            <a:off x="4830840" y="4154040"/>
            <a:ext cx="311040" cy="227160"/>
          </a:xfrm>
          <a:prstGeom prst="rect">
            <a:avLst/>
          </a:prstGeom>
          <a:solidFill>
            <a:srgbClr val="4a8ef2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7" name="Isosceles Triangle 12"/>
          <p:cNvGrpSpPr/>
          <p:nvPr/>
        </p:nvGrpSpPr>
        <p:grpSpPr>
          <a:xfrm>
            <a:off x="4791240" y="3846600"/>
            <a:ext cx="542880" cy="566640"/>
            <a:chOff x="4791240" y="3846600"/>
            <a:chExt cx="542880" cy="566640"/>
          </a:xfrm>
        </p:grpSpPr>
        <p:pic>
          <p:nvPicPr>
            <p:cNvPr id="368" name="Isosceles Triangle 12" descr=""/>
            <p:cNvPicPr/>
            <p:nvPr/>
          </p:nvPicPr>
          <p:blipFill>
            <a:blip r:embed="rId2"/>
            <a:stretch/>
          </p:blipFill>
          <p:spPr>
            <a:xfrm>
              <a:off x="4791240" y="3846600"/>
              <a:ext cx="542880" cy="56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 rot="1834800">
              <a:off x="4987800" y="4067280"/>
              <a:ext cx="15084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0" name="Text Box 4"/>
          <p:cNvSpPr/>
          <p:nvPr/>
        </p:nvSpPr>
        <p:spPr>
          <a:xfrm>
            <a:off x="681120" y="633096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2305080" y="5548320"/>
            <a:ext cx="72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72" name="Straight Arrow Connector 2"/>
          <p:cNvCxnSpPr/>
          <p:nvPr/>
        </p:nvCxnSpPr>
        <p:spPr>
          <a:xfrm>
            <a:off x="3792600" y="3330360"/>
            <a:ext cx="993960" cy="627480"/>
          </a:xfrm>
          <a:prstGeom prst="straightConnector1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373" name=""/>
          <p:cNvSpPr txBox="1"/>
          <p:nvPr/>
        </p:nvSpPr>
        <p:spPr>
          <a:xfrm>
            <a:off x="776160" y="1501560"/>
            <a:ext cx="7832880" cy="218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793440" y="743040"/>
            <a:ext cx="8258040" cy="317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Palatino Linotype"/>
              </a:rPr>
              <a:t>(Additional materials available in members’ resources)</a:t>
            </a:r>
            <a:endParaRPr b="0" lang="en-US" sz="2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16040" y="363240"/>
            <a:ext cx="794232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Arial"/>
              </a:rPr>
              <a:t>Assign a final energy value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652320" y="6313320"/>
            <a:ext cx="380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© American Modeling Teachers Association 20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8T21:37:46Z</dcterms:created>
  <dc:creator>Erin Conrardy</dc:creator>
  <dc:description/>
  <dc:language>en-US</dc:language>
  <cp:lastModifiedBy>Jeffrey Hengesbach</cp:lastModifiedBy>
  <dcterms:modified xsi:type="dcterms:W3CDTF">2017-04-09T22:05:19Z</dcterms:modified>
  <cp:revision>72</cp:revision>
  <dc:subject/>
  <dc:title>Energy Bar Graphs</dc:title>
</cp:coreProperties>
</file>